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B93-375D-4703-87C0-8BB1F033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536E-5442-43FB-AC04-A6D0D48D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CC5E-09C2-49FE-8DCC-10DD9AAF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F1F-DD9B-496F-A39A-40DF5237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DD26-41BE-433B-9E95-BF7AAAD4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17B5-9B64-47F0-AFDB-029BBCCF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F223-69E7-42AC-A67A-ED77D075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BBE2-64EA-4ECE-B63B-6612A347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8A80-F19F-4C3E-8DC5-376A974A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18DB-C4A6-45E5-9632-88EBB126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7F08-7A8D-47B0-B3F5-863401AE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6749-4884-4FCB-922F-7C5724CB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68FA-F121-4571-8A62-63D6B1AC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0C16-EF51-4B7B-94DC-0D9BCA56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3183-1CAA-4E5F-84EC-641B97E4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6F52-7427-43D6-878A-95A2FB2F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C6CD-F072-48C0-8083-1582C280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242-A02B-4CBD-9EF8-958081FB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E55-3785-4291-818B-A3836F1B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AF0-DAC0-46ED-A7FA-5B47B47B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B751-066B-499D-9D5F-3D8C525E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FE5-102B-4491-A16B-2E234370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B78-E719-4152-81E2-28ADE726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9AF-609E-4E04-95C4-DB26C247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AA48-1F84-4627-8937-0B132FAB4A2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7D25-4805-464A-AEA9-EEAB239C9F7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iterary Reading Group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95480" y="34290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iscussion Directo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oup leader of Discu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sure each person has an opportunity to present their finding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 to PLOT elements!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95880" y="4343400"/>
            <a:ext cx="182736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iscussion Directo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and list 8-10 OPEN-ENDED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estions prompt discuss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y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 you think…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248520" y="4952880"/>
            <a:ext cx="182088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Word Finde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cabulary/Interesting words in tex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d 10 new and/or interesting words in the text. Cit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ge and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 with group what THEY think it mea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80320" y="533520"/>
            <a:ext cx="21114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Word Finde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e dictionary definition that supports the word’s context in the 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[Don’t list ALL the definitions..just the one that makes sense in the sentence from the story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876920" y="3733920"/>
            <a:ext cx="2898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assage Picke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d passages relating to the PLOT elements (approx. 5-8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st Page number/paragrap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d passage alou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 why you chose and which part of the PLOT elements this passage suppor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705720" y="5057640"/>
            <a:ext cx="214308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necto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specific parts of the story to apply “connections” to your own lif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S: - a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another story you kn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something a friend ‘told’ y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-8 connections. List page number/paragrph and read aloud. Then explain your conn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194600" y="228600"/>
            <a:ext cx="173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rtful Artist (if needed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ide on a thinking map to create with the grou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: -a bubble map on one of th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Flow map the PLOT ele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a rough draft that you fill in, then use it as a guide for the one you create with the group and compa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736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Literary Group Discussion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	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MEMBER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ion Director leads group and chooses who’s turn it is to present their find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ONE must participate!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COURTEOUS..Don’t interrupt others, but be sure to contribu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JOY LEARNING!!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248520" y="4343400"/>
            <a:ext cx="2149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3:35:36Z</dcterms:created>
  <dc:creator>cmorrison</dc:creator>
  <dc:description/>
  <dc:language>en-US</dc:language>
  <cp:lastModifiedBy>cmorrison</cp:lastModifiedBy>
  <dcterms:modified xsi:type="dcterms:W3CDTF">2009-08-24T15:40:51Z</dcterms:modified>
  <cp:revision>3</cp:revision>
  <dc:subject/>
  <dc:title>Literary Reading Groups</dc:title>
</cp:coreProperties>
</file>